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marL="88920" indent="-889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marL="88920" indent="-8892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marL="88920" indent="-889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marL="88920" indent="-889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marL="88920" indent="-889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marL="88920" indent="-889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marL="274320" indent="-2743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marL="274320" indent="-27432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marL="274320" indent="-2743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marL="274320" indent="-2743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marL="274320" indent="-27432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marL="274320" indent="-2743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091880" y="1066680"/>
            <a:ext cx="11055240" cy="6019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What was the first social contract created in young United States? 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1930320" y="7260840"/>
            <a:ext cx="9102960" cy="24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320480" y="3352320"/>
            <a:ext cx="1046484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Anti-Federalists typically were poorer farmers.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320480" y="3580920"/>
            <a:ext cx="1046484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Anti-Federalists opposed the constitution for 3 big reasons.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320480" y="4266720"/>
            <a:ext cx="1046484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1. Having a powerful central government would be an “invitation to tyranny” 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320480" y="3352320"/>
            <a:ext cx="1046484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2. A lot of state’s power would be taken away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320480" y="3352320"/>
            <a:ext cx="1046484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3. There was no Bill of Rights to protect individual freedoms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Who Said It?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What agreement can they come to?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91880" y="4368960"/>
            <a:ext cx="10820520" cy="4775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The “Founding Fathers” at the Constitutional Convention, 1787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Who is left out here?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List as many as you can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43" name="Picture 2" descr=""/>
          <p:cNvPicPr/>
          <p:nvPr/>
        </p:nvPicPr>
        <p:blipFill>
          <a:blip r:embed="rId2"/>
          <a:stretch/>
        </p:blipFill>
        <p:spPr>
          <a:xfrm>
            <a:off x="1471680" y="355680"/>
            <a:ext cx="1005984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The Constitution- who is left out?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Only 6% of the population was able to vote at first 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White male property owners age 21 or older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The Constitution- who is left out?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Landless me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Wome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laves, African-American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Native American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244160" y="320040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Gill Sans"/>
              </a:rPr>
              <a:t>Why were these articles made so weak?</a:t>
            </a:r>
            <a:endParaRPr b="0" lang="en-US" sz="9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Ratification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ocial Contract: the people agree to i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onstitution draft sent to the states to vote to </a:t>
            </a:r>
            <a:r>
              <a:rPr b="0" lang="en-US" sz="4200" spc="-1" strike="noStrike" u="sng">
                <a:solidFill>
                  <a:srgbClr val="ffffff"/>
                </a:solidFill>
                <a:uFillTx/>
                <a:latin typeface="Gill Sans"/>
              </a:rPr>
              <a:t>ratify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or no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9 out of 13 of the states had to vote for it to ratify the constitutio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Ratification, 1788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269720" y="405108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itical cartoon from the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ston Intependent Chronicl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une 12, 1788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ederalists promised to add a Bill of Rights to get states to agre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ose votes in many states (MA 187-168, 30-27 in NY, 57-47 in NH) 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52" name="Picture 3" descr=""/>
          <p:cNvPicPr/>
          <p:nvPr/>
        </p:nvPicPr>
        <p:blipFill>
          <a:blip r:embed="rId2"/>
          <a:stretch/>
        </p:blipFill>
        <p:spPr>
          <a:xfrm>
            <a:off x="2057400" y="2324160"/>
            <a:ext cx="8889840" cy="26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244160" y="320004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400" spc="-1" strike="noStrike">
                <a:solidFill>
                  <a:srgbClr val="ffffff"/>
                </a:solidFill>
                <a:latin typeface="Gill Sans"/>
              </a:rPr>
              <a:t>3/5ths Compromise: </a:t>
            </a: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Slaves were counted as 3/5</a:t>
            </a:r>
            <a:r>
              <a:rPr b="0" lang="en-US" sz="8400" spc="-1" strike="noStrike" baseline="30000">
                <a:solidFill>
                  <a:srgbClr val="ffffff"/>
                </a:solidFill>
                <a:latin typeface="Gill Sans"/>
              </a:rPr>
              <a:t>ths</a:t>
            </a: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 of a person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244160" y="396216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The U.S. Constitution was ratified.  How was the power of central government balanced with protecting individual rights?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168560" y="3733560"/>
            <a:ext cx="1046448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What did the Federalists get?</a:t>
            </a:r>
            <a:br>
              <a:rPr sz="8400"/>
            </a:br>
            <a:br>
              <a:rPr sz="8400"/>
            </a:b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What did the Anti-Federalists get?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320480" y="487692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What solutions were generated to strengthen government, but also to keep it from abusing power?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397160" y="5715000"/>
            <a:ext cx="104644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This new constitution needed to be </a:t>
            </a:r>
            <a:r>
              <a:rPr b="1" lang="en-US" sz="8400" spc="-1" strike="noStrike">
                <a:solidFill>
                  <a:srgbClr val="ffffff"/>
                </a:solidFill>
                <a:latin typeface="Gill Sans"/>
              </a:rPr>
              <a:t>ratified</a:t>
            </a: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.</a:t>
            </a:r>
            <a:br>
              <a:rPr sz="8400"/>
            </a:br>
            <a:br>
              <a:rPr sz="8400"/>
            </a:br>
            <a:br>
              <a:rPr sz="8400"/>
            </a:b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What does </a:t>
            </a:r>
            <a:r>
              <a:rPr b="1" lang="en-US" sz="8400" spc="-1" strike="noStrike">
                <a:solidFill>
                  <a:srgbClr val="ffffff"/>
                </a:solidFill>
                <a:latin typeface="Gill Sans"/>
              </a:rPr>
              <a:t>ratify</a:t>
            </a: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 mean?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244160" y="274320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400" spc="-1" strike="noStrike">
                <a:solidFill>
                  <a:srgbClr val="ffffff"/>
                </a:solidFill>
                <a:latin typeface="Gill Sans"/>
              </a:rPr>
              <a:t>Ratify: </a:t>
            </a: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to approve, officially make valid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244160" y="4038120"/>
            <a:ext cx="1046484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However, not everyone was happy with this new version of the social contrac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244160" y="4266720"/>
            <a:ext cx="1046484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Those that favored this stronger central government were called </a:t>
            </a:r>
            <a:r>
              <a:rPr b="0" i="1" lang="en-US" sz="8400" spc="-1" strike="noStrike">
                <a:solidFill>
                  <a:srgbClr val="ffffff"/>
                </a:solidFill>
                <a:latin typeface="Gill Sans"/>
              </a:rPr>
              <a:t>Federalists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320480" y="3352320"/>
            <a:ext cx="1046484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Federalists typically were wealthier men that owned property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244160" y="5181120"/>
            <a:ext cx="1046484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Those that thought the central government was still too powerful and </a:t>
            </a:r>
            <a:r>
              <a:rPr b="0" lang="en-US" sz="8400" spc="-1" strike="noStrike" u="sng">
                <a:solidFill>
                  <a:srgbClr val="ffffff"/>
                </a:solidFill>
                <a:uFillTx/>
                <a:latin typeface="Gill Sans"/>
              </a:rPr>
              <a:t>opposed ratifying the constitution </a:t>
            </a: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were called </a:t>
            </a:r>
            <a:r>
              <a:rPr b="0" i="1" lang="en-US" sz="8400" spc="-1" strike="noStrike">
                <a:solidFill>
                  <a:srgbClr val="ffffff"/>
                </a:solidFill>
                <a:latin typeface="Gill Sans"/>
              </a:rPr>
              <a:t>Anti-Federalists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8T01:20:36Z</dcterms:created>
  <dc:creator/>
  <dc:description/>
  <cp:keywords/>
  <dc:language>en-US</dc:language>
  <cp:lastModifiedBy>Jason Kash</cp:lastModifiedBy>
  <dcterms:modified xsi:type="dcterms:W3CDTF">2011-04-08T10:04:49Z</dcterms:modified>
  <cp:revision>4</cp:revision>
  <dc:subject/>
  <dc:title>What was the first social contract created in young United States? </dc:title>
</cp:coreProperties>
</file>